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AAA-DDEC-4B9A-85BB-80B77559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1A3-D854-4115-BF8C-5BCEECA5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D0C-2EA8-48CD-A230-7184878B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C19-7DBC-4D94-B87B-B24661CD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4A405-37ED-4B1D-A08A-121F88FE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836D-7DC0-4F4C-8019-71B80E6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5AAA-ABF1-49E4-8C16-3EE9A52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47DD1-4613-4D6B-9C4B-54250D15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18B0A-7D2F-454A-8DBF-D2AB8E25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E039C-BBA8-4291-851A-7AB751E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FCBD0-84DB-4FEA-AC1A-8BB7B62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1CA-36B7-48F7-A120-B1A8027E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D5C8D-2296-43BD-9D4E-BC14275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8769-974E-4650-BCD8-E6610E4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E0EBC-0E34-4A8A-B972-E748DD0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FA470-1EDD-46F3-BAE9-C578842C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EC7C4-1BFE-4424-A92C-4DFAD4B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5DF-11C9-45AC-9D10-BCE50FE6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659-D0AC-42CD-A724-10B857F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A03-DDDE-4548-8A25-CD6FF6A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0B2-EE47-4468-AB3B-87ADC39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B51-A21D-472D-A8D2-925DE99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0EA-1CE6-4E82-A8CB-48E4CBE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788-30CF-4A56-9B6A-AED58D8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4DBA-1AB2-4BB5-B070-82350FC52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648B-8AF5-45D5-AFF4-780F64BE3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429000" y="3998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1148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1148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934320" y="5715000"/>
            <a:ext cx="2209680" cy="533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Arial"/>
              </a:rPr>
              <a:t>Peggy You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463416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463416"/>
                </a:solidFill>
                <a:latin typeface="Arial"/>
              </a:rPr>
              <a:t> Gr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29528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aphy Term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lle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valley is low land between hills or mountai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es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24280" y="12952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forest is a large area of land where many trees grow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t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untain is the highest kind of land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untain has a pea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349440" cy="365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00320" cy="2500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ill is land that rises above the land around it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ill has a rounded to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 island is land that has water on all sid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60680" y="2779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219320"/>
            <a:ext cx="376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esert is dry land with few pla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esert does not get much ra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i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73356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175248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227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1800" y="1676520"/>
            <a:ext cx="3507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iver 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ng bod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water tha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s throug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95680" y="1447920"/>
            <a:ext cx="4038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ake is a body of water that has land on all sid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c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4190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cean is a very l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y of salty water that covers a large are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3733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lain is flat l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6:51:40Z</dcterms:created>
  <dc:creator>sjhs</dc:creator>
  <dc:description/>
  <dc:language>en-US</dc:language>
  <cp:lastModifiedBy>Peggy Young</cp:lastModifiedBy>
  <dcterms:modified xsi:type="dcterms:W3CDTF">2007-05-30T01:25:55Z</dcterms:modified>
  <cp:revision>4</cp:revision>
  <dc:subject/>
  <dc:title>Slide 1</dc:title>
</cp:coreProperties>
</file>